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C0A-C804-4E0A-85D8-DE83D4CF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E64-0A8C-4FA3-9775-0334308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132-08FE-4FD5-8677-77749E8F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F4B-AF52-40CF-BD88-C90C3C5A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D9C-A133-4947-B65F-D9D9E624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217-B1A6-4962-8501-10ED961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65C-2BC2-4C2E-8B22-8C9FDBA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318-AF9B-41C9-A2D2-CA59A50F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3D3-7FF6-4797-B0D4-982505D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667-A481-4801-B7FA-2D129DB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4C7-DBAF-4047-822D-FDEB60E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40B-729E-42B4-9D07-B6FD293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0D7F-FAC2-4933-AAAC-45D7B96A9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Essay Question due Monday (FR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858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y was New England opposed to the War of 1812? What role did the expansion of the United States play in this [desire for war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o Para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’l events leading up to War of 18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omestic forces encouraging the war [War Hawk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xtent of the opposition to the American war eff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ays in which the New England Federalists attempted to show their obj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nd of the War of 1812, and trea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clusion (mention Era of Good Feelin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**You may ONLY use your textbook and maps to do this essay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ing ANYTHING from the Internet will = automatic ZERO (0)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Anchor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ll examples and arguments with a DATE &amp;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veryone understand????? Excell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64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RQ – Information L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523880"/>
            <a:ext cx="4152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r Hawks (Clay &amp; Calh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nis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an R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inckney’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esapeake-Leopard Inc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bargo Act 1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ce Act (pg. 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Intercourse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con’s Bill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ps on page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6480" y="1523880"/>
            <a:ext cx="4152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arrison Land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iam Henry Har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cums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itish relations with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tle of Fallen Timbers (British refused to aid Indi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cumseh's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tle of Tippeca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re for Florida as cause of war (Spain = GB’s 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a of territorial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artford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End of Federalis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eaty of Gh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8:32:14Z</dcterms:created>
  <dc:creator>56020</dc:creator>
  <dc:description/>
  <dc:language>en-US</dc:language>
  <cp:lastModifiedBy>56020</cp:lastModifiedBy>
  <dcterms:modified xsi:type="dcterms:W3CDTF">2010-10-27T18:32:15Z</dcterms:modified>
  <cp:revision>1</cp:revision>
  <dc:subject/>
  <dc:title>Slide 1</dc:title>
</cp:coreProperties>
</file>